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FE14-D10C-49BA-B8A9-8577798AB1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08FE-4A6A-4D96-87F9-8900FE03A11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508-53B8-4D9D-887A-CD48C2CEFF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507-DAF3-472A-894A-09D4DDEB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05D-DDAB-4483-95D2-3377F87A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CFF-8F4E-443D-8D1F-005DCFF4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228-794A-4B2E-86A5-2222F652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994F-697E-4220-8A1D-CA4242A89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49921-0191-4A52-9619-3A535A87E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7A3A-2B89-4B2E-9806-6C7BAB1587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08F28-525B-4A6F-A998-076B401C69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3A4F6-B7D4-4EA1-80CF-A12CF1DE4A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93D3A-1783-41EE-AE4E-AA6B75CFE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5D314-2D45-4B1F-B10D-2A611F92C6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0E7-547F-43C9-9460-F312CB14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96C46-8FFC-40D1-AC21-68C1C61E6E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D5C3-7467-4075-9809-1FF9BAC03F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6E650-7107-4CD0-8867-47CD4B731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24BB-03DA-4ADB-8910-4A5050B9A8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F9E83-BDE7-4AEF-8E9C-9EFE5C9CBF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D207B-6BF1-4375-ACF1-E26161A0C6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C0B74-C82C-4A2E-AF6A-6CEB0B8C9B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0D8EB-CDAD-47F8-9E4C-DE868397D3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C4AD0-EEDA-4242-B91A-3883016FE2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E7FA2-8AAA-4A5E-B5BC-DCB80509C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69E-1E8E-45DB-A6D7-4FCF4AAE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87AFB-BFF4-4F62-B9CA-C8D75A82E9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232DB-7929-48FE-ADF3-0B2340F2AB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0D9CC-97CD-49A2-9B9C-6789F857B6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5AEEC-8300-433B-947A-83BFB31779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3CB7E-0988-4403-B867-AC1A79CFD4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B117E-930C-4AF2-8356-A091943D2F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EC939-CACE-4A81-9E40-FD4CEA35A9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EDE2C-0B7D-4C4E-9437-B033B6C6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9B2EB-B6BF-4C6C-ACFE-5C43471E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9D78F-0D68-4D1B-9C6C-C47CFA73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7C9-6713-453D-BE4C-BF9F6B7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AA716-224D-42A8-BF35-939FCA6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B1B0C-75D6-4422-850C-4441EB3D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1371A-9C66-4238-B4B3-8982CEAE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25CAE-FD27-4B34-8D9F-A830D6E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D705E-3CF1-4FC2-9A61-047C0AE1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4C4C7-0992-41A0-BF3C-82066BC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D9A8B3-A4F3-42FA-84F3-582B4317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C19F0-C67A-430F-8278-73072D75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E9716-7980-426B-A439-CA0B4865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C2F-7054-4AB5-8757-8E409C81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B8B-F43C-4AFC-BF8E-D9990D6C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3EC-F783-41DD-B905-BF3143F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F0-78A1-4074-BF46-D025A350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EAB-B10B-471E-AC45-2008761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7AB-4488-4430-B5B6-0FE529C98B6B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8BC-20ED-4731-B734-395C4335677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4"/>
          </p:nvPr>
        </p:nvSpPr>
        <p:spPr>
          <a:xfrm>
            <a:off x="457200" y="624492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ura Chies                                                        DEAMS - Università di Tri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3B15-5EAA-4C51-ACE9-0EC8AF2AA7FC}" type="slidenum">
              <a:rPr b="0" lang="it-IT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6"/>
          </p:nvPr>
        </p:nvSpPr>
        <p:spPr>
          <a:xfrm>
            <a:off x="380520" y="6248160"/>
            <a:ext cx="586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ura Chies                                                        DEAMS - Università di Tri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B4E-AA7D-4B27-8937-A856F144A4E2}" type="slidenum">
              <a:rPr b="0" lang="it-IT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0070-6171-4A39-912B-2C67ABBC8A9D}" type="datetime">
              <a:rPr b="0" lang="it-IT" sz="10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6F0-CA82-4C7E-897A-C05CC48F5EC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1B6D-6934-40D0-8915-6229E2C3C21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0066"/>
                </a:solidFill>
                <a:latin typeface="Arial"/>
              </a:rPr>
              <a:t>Bilancio di Gene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0160" y="3951360"/>
            <a:ext cx="640368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Arial"/>
              </a:rPr>
              <a:t>Strumento di valutazione per le Politiche di par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piè di pagina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AF4-8512-4268-B682-F75DAAF7B88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Qualche esempio di </a:t>
            </a:r>
            <a:r>
              <a:rPr b="1" lang="it-IT" sz="3900" spc="-1" strike="noStrike">
                <a:solidFill>
                  <a:srgbClr val="0070c0"/>
                </a:solidFill>
                <a:latin typeface="Arial"/>
              </a:rPr>
              <a:t>politiche di spesa</a:t>
            </a: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: Il lavoro non paga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100" spc="-1" strike="noStrike">
                <a:solidFill>
                  <a:srgbClr val="ff0000"/>
                </a:solidFill>
                <a:latin typeface="Arial"/>
              </a:rPr>
              <a:t>lavoro totale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è composto da lavoro </a:t>
            </a:r>
            <a:r>
              <a:rPr b="0" lang="it-IT" sz="2100" spc="-1" strike="noStrike">
                <a:solidFill>
                  <a:srgbClr val="ff0000"/>
                </a:solidFill>
                <a:latin typeface="Arial"/>
              </a:rPr>
              <a:t>pagat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e lavoro </a:t>
            </a:r>
            <a:r>
              <a:rPr b="0" lang="it-IT" sz="2100" spc="-1" strike="noStrike">
                <a:solidFill>
                  <a:srgbClr val="ff0000"/>
                </a:solidFill>
                <a:latin typeface="Arial"/>
              </a:rPr>
              <a:t>non pag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Nell’analisi dell’impatto delle politiche pubbliche occorre considerare che le donne sono le principali erogatrici di lavoro non paga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Scelta della politica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Effett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900" spc="-1" strike="noStrike">
                <a:solidFill>
                  <a:srgbClr val="ff0000"/>
                </a:solidFill>
                <a:latin typeface="Arial"/>
              </a:rPr>
              <a:t>trasferiment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dei costi dal personale retribuito dagli ospedali pubblici al lavoro </a:t>
            </a:r>
            <a:r>
              <a:rPr b="0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non pagat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delle donne nelle famiglie: </a:t>
            </a:r>
            <a:r>
              <a:rPr b="0" lang="it-IT" sz="19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si ottiene un </a:t>
            </a:r>
            <a:r>
              <a:rPr b="0" lang="it-IT" sz="1900" spc="-1" strike="noStrike">
                <a:solidFill>
                  <a:srgbClr val="ff0000"/>
                </a:solidFill>
                <a:latin typeface="Arial"/>
              </a:rPr>
              <a:t>risparmi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ff0000"/>
                </a:solidFill>
                <a:latin typeface="Arial"/>
              </a:rPr>
              <a:t>nett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effettivo!! (Elson, 1998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Indicatore del non lavor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100" spc="-1" strike="noStrike">
                <a:solidFill>
                  <a:srgbClr val="ff0000"/>
                </a:solidFill>
                <a:latin typeface="Arial"/>
              </a:rPr>
              <a:t>bilanci del temp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ono di valutare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quanto le donne siano sovrautilizzate nell’erogazione di lavoro domestico e di cur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TAT, 2012: in media </a:t>
            </a:r>
            <a:r>
              <a:rPr b="0" lang="it-IT" sz="1800" spc="-1" strike="noStrike">
                <a:solidFill>
                  <a:srgbClr val="00b050"/>
                </a:solidFill>
                <a:latin typeface="Arial"/>
              </a:rPr>
              <a:t>3 ore in più al giorn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gli uomini)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Costi di lungo periodo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i questa </a:t>
            </a:r>
            <a:r>
              <a:rPr b="0" lang="it-IT" sz="2300" spc="-1" strike="noStrike" u="sng">
                <a:solidFill>
                  <a:srgbClr val="000000"/>
                </a:solidFill>
                <a:uFillTx/>
                <a:latin typeface="Arial"/>
              </a:rPr>
              <a:t>politica di riduzione della spesa pubblica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sono: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frutt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eros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apitale uma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e donne (misurato dal non/minore lavoro per il mercato: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in media 2 ore in meno al giorno degli uomi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505320" y="289548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egnaposto piè di pagina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tangolo 7"/>
          <p:cNvSpPr/>
          <p:nvPr/>
        </p:nvSpPr>
        <p:spPr>
          <a:xfrm>
            <a:off x="4191120" y="2819520"/>
            <a:ext cx="4572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agli nella spesa sanitari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029-DFBA-4EAB-BBE5-FEEE8C1DF9F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0066"/>
                </a:solidFill>
                <a:latin typeface="Arial"/>
              </a:rPr>
              <a:t>Le categorie della spesa in base al genere: </a:t>
            </a: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le politiche adottat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pese destinate direttamente a don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a uomini (ad esempio per 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adri so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 per 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alute delle don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pe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stinate al raggiungiment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ll’obiettivo di pari opportun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ll’ente pubblico e tra gli occupati (ad esempio le 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</a:rPr>
              <a:t>spese sostenute per corsi di form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onciliazione: 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</a:rPr>
              <a:t>asili aziend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omma delle spese con impatto di genere (femminile) non superano il 5% del totale dell’impegnato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S 2010:  5,36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pese che residua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appresentano in generale per l’Itali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iù del 95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e totale delle spese di bilancio ed è appunto su queste che si può proceder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ll’analisi dell’impatto di gene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vi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dir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it-IT" sz="3000" spc="-1" strike="noStrike">
                <a:solidFill>
                  <a:srgbClr val="330066"/>
                </a:solidFill>
                <a:latin typeface="Arial"/>
              </a:rPr>
              <a:t>. Il BdG per la Provincia Trieste (2008 e 2010): aumentare le </a:t>
            </a:r>
            <a:r>
              <a:rPr b="1" i="1" lang="it-IT" sz="3000" spc="-1" strike="noStrike">
                <a:solidFill>
                  <a:srgbClr val="330066"/>
                </a:solidFill>
                <a:latin typeface="Arial"/>
              </a:rPr>
              <a:t>capabilities</a:t>
            </a:r>
            <a:r>
              <a:rPr b="1" lang="it-IT" sz="3000" spc="-1" strike="noStrike">
                <a:solidFill>
                  <a:srgbClr val="330066"/>
                </a:solidFill>
                <a:latin typeface="Arial"/>
              </a:rPr>
              <a:t> ha significato…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Arial"/>
              </a:rPr>
              <a:t>Partecipazione e accesso poli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centuale di seggi occupati da donne rapportata a quella maschile (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Comuni della Prov.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it-IT" sz="2400" spc="-1" strike="noStrike">
                <a:solidFill>
                  <a:srgbClr val="00b050"/>
                </a:solidFill>
                <a:latin typeface="Arial"/>
              </a:rPr>
              <a:t>26%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apporto di  Genere sulla 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Governance intern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Pres.+Assessori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it-IT" sz="2400" spc="-1" strike="noStrike">
                <a:solidFill>
                  <a:srgbClr val="00b050"/>
                </a:solidFill>
                <a:latin typeface="Arial"/>
              </a:rPr>
              <a:t>57% F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Dirigenza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2400" spc="-1" strike="noStrike">
                <a:solidFill>
                  <a:srgbClr val="00b050"/>
                </a:solidFill>
                <a:latin typeface="Arial"/>
              </a:rPr>
              <a:t>37,5%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ndagini sulla soddisfazione interna dei dipendenti (Part-time, condizioni di lavoro) e 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mainstreaming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inanziamento a organizzazioni, associazioni o gruppi di rappresentanza femminili/maschili (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Spese PO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it-IT" sz="2400" spc="-1" strike="noStrike">
                <a:solidFill>
                  <a:srgbClr val="00b050"/>
                </a:solidFill>
                <a:latin typeface="Arial"/>
              </a:rPr>
              <a:t>0,13%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della spesa tot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A53-DF8C-4362-A9AC-B0DFA9DA4F5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B28-C039-4833-9959-CE925AF23B8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330066"/>
                </a:solidFill>
                <a:latin typeface="Arial"/>
              </a:rPr>
              <a:t>BdG per la Provincia Trieste </a:t>
            </a:r>
            <a:r>
              <a:rPr b="1" lang="it-IT" sz="2000" spc="-1" strike="noStrike">
                <a:solidFill>
                  <a:srgbClr val="330066"/>
                </a:solidFill>
                <a:latin typeface="Arial"/>
              </a:rPr>
              <a:t>(continua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</a:rPr>
              <a:t>Accesso e controllo delle risorse pubbliche e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pese relative per genere mir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ffiancate da una misura di numerosità sulla popolazione (es. Spese Sviluppo economico=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41,6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F; F/Pop=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45,4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pese assistenzial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i protezione soci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ressamente rivolte ai due generi, affiancate a misure di gap della povertà (Spesa Sociale=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51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le donne percepiscono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il 64% del reddito degli uom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media reg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70c0"/>
                </a:solidFill>
                <a:latin typeface="Arial"/>
              </a:rPr>
              <a:t>Accesso e controllo su risorse immateriali e cog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spese per istruzione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, di 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formazione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o di 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alfabetizzazion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(spesa F </a:t>
            </a:r>
            <a:r>
              <a:rPr b="0" i="1" lang="it-IT" sz="2000" spc="-1" strike="noStrike">
                <a:solidFill>
                  <a:srgbClr val="00b050"/>
                </a:solidFill>
                <a:latin typeface="Arial"/>
              </a:rPr>
              <a:t>20,6%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; rapporto partecipazione istruzione secondaria F/M= </a:t>
            </a:r>
            <a:r>
              <a:rPr b="0" i="1" lang="it-IT" sz="2000" spc="-1" strike="noStrike">
                <a:solidFill>
                  <a:srgbClr val="00b050"/>
                </a:solidFill>
                <a:latin typeface="Arial"/>
              </a:rPr>
              <a:t>1,02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apporto di 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Incidenza della spesa per servizi educativ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(C/corrente=</a:t>
            </a:r>
            <a:r>
              <a:rPr b="0" i="1" lang="it-IT" sz="2000" spc="-1" strike="noStrike">
                <a:solidFill>
                  <a:srgbClr val="00b050"/>
                </a:solidFill>
                <a:latin typeface="Arial"/>
              </a:rPr>
              <a:t>7,1%;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/Capitale=</a:t>
            </a:r>
            <a:r>
              <a:rPr b="0" i="1" lang="it-IT" sz="2000" spc="-1" strike="noStrike">
                <a:solidFill>
                  <a:srgbClr val="00b050"/>
                </a:solidFill>
                <a:latin typeface="Arial"/>
              </a:rPr>
              <a:t>3,5%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98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8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95C-DCD5-4649-A9FE-79789451C63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81520" cy="4419720"/>
          </a:xfrm>
          <a:prstGeom prst="rect">
            <a:avLst/>
          </a:prstGeom>
          <a:ln w="0">
            <a:noFill/>
          </a:ln>
        </p:spPr>
      </p:pic>
      <p:sp>
        <p:nvSpPr>
          <p:cNvPr id="307" name="CasellaDiTesto 4"/>
          <p:cNvSpPr/>
          <p:nvPr/>
        </p:nvSpPr>
        <p:spPr>
          <a:xfrm>
            <a:off x="641160" y="914400"/>
            <a:ext cx="637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Grazie per l’attenzione… e a presto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352680" cy="381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Users\Proprietario\Pictures\LOgo\newlogoout.gif"/>
          <p:cNvPicPr/>
          <p:nvPr/>
        </p:nvPicPr>
        <p:blipFill>
          <a:blip r:embed="rId3"/>
          <a:stretch/>
        </p:blipFill>
        <p:spPr>
          <a:xfrm>
            <a:off x="5486400" y="2209680"/>
            <a:ext cx="3352680" cy="68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Proprietario\Pictures\LOgo\logo deams col.jpg"/>
          <p:cNvPicPr/>
          <p:nvPr/>
        </p:nvPicPr>
        <p:blipFill>
          <a:blip r:embed="rId4"/>
          <a:stretch/>
        </p:blipFill>
        <p:spPr>
          <a:xfrm>
            <a:off x="5486400" y="28954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311" name="CasellaDiTesto 8"/>
          <p:cNvSpPr/>
          <p:nvPr/>
        </p:nvSpPr>
        <p:spPr>
          <a:xfrm>
            <a:off x="6095880" y="2895480"/>
            <a:ext cx="28195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ipartimento di Scienze Economiche Aziendali, Matematiche e Statis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sellaDiTesto 9"/>
          <p:cNvSpPr/>
          <p:nvPr/>
        </p:nvSpPr>
        <p:spPr>
          <a:xfrm>
            <a:off x="5638680" y="4419720"/>
            <a:ext cx="29019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Worksh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Esperienze di Bilancio di Gene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23600"/>
                </a:solidFill>
                <a:latin typeface="Arial"/>
              </a:rPr>
              <a:t>Venerdì 15 giugno, ore 9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la Magna Ed.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niversità di Tri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iazzale Europa,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tangolo 10"/>
          <p:cNvSpPr/>
          <p:nvPr/>
        </p:nvSpPr>
        <p:spPr>
          <a:xfrm>
            <a:off x="2819520" y="5410080"/>
            <a:ext cx="16761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egnaposto piè di pagina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AED0-9181-4DB5-A505-F9F4DCED454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Contenuti dell’interv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1199"/>
              </a:spcAft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osa s’intende per Bilancio di Genere (BdG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spcAft>
                <a:spcPts val="1199"/>
              </a:spcAft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erché riclassificare i bilanc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1199"/>
              </a:spcAft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e politiche pubbliche tra equità ed efficienza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necessità di trasparenza e di consapevol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spcAft>
                <a:spcPts val="1199"/>
              </a:spcAft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l Bilancio di Genere per la Provincia di Trieste: qualche da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gnaposto piè di pagina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. Cosa s’intende per Bilancio di Gen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l’analisi delle spese e delle entrate di un bilancio pubblico (ma anche privato), con riferimento all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diversità di effetti che tali spese hanno per le donne e per gli uomi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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Non è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un bilanci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he divide le spese per sesso dei destinata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né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segu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l’au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l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spes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programmi destinati all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don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 E’ uno </a:t>
            </a: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strumento di valutazione della politica economic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egnaposto numero diapositiv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0C6-FEA9-4E7B-8B38-17742EC6479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1D7-025C-4B60-933F-B409E85136D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it-IT" sz="3200" spc="-1" strike="noStrike">
                <a:solidFill>
                  <a:srgbClr val="330066"/>
                </a:solidFill>
                <a:latin typeface="Arial"/>
              </a:rPr>
              <a:t>. Perché è importante l’analisi d’impatto di genere nelle politiche pubblich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ché è giustificata dalle differenze di genere in termi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rtamen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zioni alle politich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dizioni socioeconom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a politica che non consideri tali differenz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non può essere neutr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ispetto al genere nella sua appl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088-EE82-4090-AC54-E720EB104B3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it-IT" sz="2800" spc="-1" strike="noStrike">
                <a:solidFill>
                  <a:srgbClr val="330066"/>
                </a:solidFill>
                <a:latin typeface="Arial"/>
              </a:rPr>
              <a:t>. Le politiche pubbliche tra equità ed efficienza: le necessità di trasparenza e di consapevolezz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motivazioni del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gender auditing o bilancio consuntivo riclassificat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senti in letteratura si incentrano sia su questioni d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qu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he su questioni d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ffici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Equ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e statistiche evidenziano problemi importanti per diversi aspetti inerenti il genere, quali 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stribuzione del reddi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’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occup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’accesso 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qualifiche diret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’accesso alla «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olit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», e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Efficien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e non si considera il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uolo del lavoro non paga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finiscono col trascurare i costi delle politiche di bilancio rivolte alle donne (sono le madri a spendere di più per i figli, quindi una riduzione del reddito delle madri riduce anche il benessere dei fig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Come si strutturano i Bd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Analisi di contes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(dove l’uso degli indicatori è cruci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isi delle 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politiche di spes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(e di entrata)  per valutare il loro effetto su uomini e 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Analisi delle 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politiche adottat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 affrontare direttamente 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la disuguaglianza di gen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isi delle 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politiche inter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all’Amminist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4D1-0E17-4EA8-851D-F7C5555C479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Principio ispiratore: cambiamento di prospet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Segnaposto numero diapositiv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250-6DB0-465F-A751-5B5EA024F84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619800" cy="4543560"/>
          </a:xfrm>
          <a:prstGeom prst="rect">
            <a:avLst/>
          </a:prstGeom>
          <a:ln w="0">
            <a:noFill/>
          </a:ln>
        </p:spPr>
      </p:pic>
      <p:sp>
        <p:nvSpPr>
          <p:cNvPr id="263" name="Segnaposto piè di pagina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it-IT" sz="3200" spc="-1" strike="noStrike">
                <a:solidFill>
                  <a:srgbClr val="330066"/>
                </a:solidFill>
                <a:latin typeface="Arial"/>
              </a:rPr>
              <a:t>Invece le manovre hanno sempre effetti: </a:t>
            </a:r>
            <a:r>
              <a:rPr b="1" lang="it-IT" sz="3200" spc="-1" strike="noStrike">
                <a:solidFill>
                  <a:srgbClr val="0070c0"/>
                </a:solidFill>
                <a:latin typeface="Arial"/>
              </a:rPr>
              <a:t>Analisi di contesto e indicator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ontes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l’insieme delle caratteristiche della popolazione di un territorio declinato per genere che misurano la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qualità della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indicatori internazionali che definiscono «gli ingredienti della qualità della vita», i quali determinano le «capacità» o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apabilitie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viduali delle Italiane e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G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NU) Indice di Sviluppo Umano in relazione al Genere (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aumento delle capac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– (2009,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24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o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GE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NU) Misura di Empowerment di Genere (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utilizzo delle capac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– (2009,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21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o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GI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ONU) – (2011,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15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o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GG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World Economic Forum) Global Gender Gap - </a:t>
            </a:r>
            <a:r>
              <a:rPr b="1" lang="it-IT" sz="2000" spc="-1" strike="noStrike">
                <a:solidFill>
                  <a:srgbClr val="00b050"/>
                </a:solidFill>
                <a:latin typeface="Arial"/>
              </a:rPr>
              <a:t>74° p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GE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UE) Gender Equality Index (2009, </a:t>
            </a:r>
            <a:r>
              <a:rPr b="0" lang="it-IT" sz="2000" spc="-1" strike="noStrike">
                <a:solidFill>
                  <a:srgbClr val="00b050"/>
                </a:solidFill>
                <a:latin typeface="Arial"/>
              </a:rPr>
              <a:t>11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9B3-1CA5-4576-A568-A6BCDDF5611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arentesi graffa aperta 5"/>
          <p:cNvSpPr/>
          <p:nvPr/>
        </p:nvSpPr>
        <p:spPr>
          <a:xfrm>
            <a:off x="609480" y="3505320"/>
            <a:ext cx="381240" cy="838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838080"/>
              <a:gd name="textAreaBottom" fmla="*/ 8283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5400" y="10800"/>
                  <a:pt x="0" y="10800"/>
                </a:cubicBezTo>
                <a:cubicBezTo>
                  <a:pt x="54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Forma 7" descr=""/>
          <p:cNvPicPr/>
          <p:nvPr/>
        </p:nvPicPr>
        <p:blipFill>
          <a:blip r:embed="rId1"/>
          <a:stretch/>
        </p:blipFill>
        <p:spPr>
          <a:xfrm>
            <a:off x="353880" y="3895560"/>
            <a:ext cx="755640" cy="1103400"/>
          </a:xfrm>
          <a:prstGeom prst="rect">
            <a:avLst/>
          </a:prstGeom>
          <a:ln w="0">
            <a:noFill/>
          </a:ln>
        </p:spPr>
      </p:pic>
      <p:sp>
        <p:nvSpPr>
          <p:cNvPr id="269" name="Parentesi graffa chiusa 13"/>
          <p:cNvSpPr/>
          <p:nvPr/>
        </p:nvSpPr>
        <p:spPr>
          <a:xfrm>
            <a:off x="8001000" y="3505320"/>
            <a:ext cx="380880" cy="144756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447560"/>
              <a:gd name="textAreaBottom" fmla="*/ 14378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7"/>
                  <a:pt x="10800" y="474"/>
                </a:cubicBezTo>
                <a:lnTo>
                  <a:pt x="10800" y="10326"/>
                </a:lnTo>
                <a:cubicBezTo>
                  <a:pt x="10800" y="10563"/>
                  <a:pt x="16200" y="10800"/>
                  <a:pt x="21600" y="10800"/>
                </a:cubicBezTo>
                <a:cubicBezTo>
                  <a:pt x="16200" y="10800"/>
                  <a:pt x="10800" y="11037"/>
                  <a:pt x="10800" y="11274"/>
                </a:cubicBezTo>
                <a:lnTo>
                  <a:pt x="10800" y="21126"/>
                </a:lnTo>
                <a:cubicBezTo>
                  <a:pt x="10800" y="213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llaDiTesto 14"/>
          <p:cNvSpPr/>
          <p:nvPr/>
        </p:nvSpPr>
        <p:spPr>
          <a:xfrm>
            <a:off x="8305920" y="3886200"/>
            <a:ext cx="838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u 4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asellaDiTesto 15"/>
          <p:cNvSpPr/>
          <p:nvPr/>
        </p:nvSpPr>
        <p:spPr>
          <a:xfrm>
            <a:off x="8305920" y="4952880"/>
            <a:ext cx="8380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0c0"/>
                </a:solidFill>
                <a:latin typeface="Arial"/>
              </a:rPr>
              <a:t>Su 13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0c0"/>
                </a:solidFill>
                <a:latin typeface="Arial"/>
              </a:rPr>
              <a:t>pa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piè di pagina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Quindi vi sono spazi di intervento in Ital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Segnaposto numero diapositiva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B045-6779-4F89-8C1F-1EF933B2231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12160" cy="2746440"/>
          </a:xfrm>
          <a:prstGeom prst="rect">
            <a:avLst/>
          </a:prstGeom>
          <a:ln w="0">
            <a:noFill/>
          </a:ln>
        </p:spPr>
      </p:pic>
      <p:pic>
        <p:nvPicPr>
          <p:cNvPr id="276" name="CasellaDiTesto 7" descr=""/>
          <p:cNvPicPr/>
          <p:nvPr/>
        </p:nvPicPr>
        <p:blipFill>
          <a:blip r:embed="rId2"/>
          <a:stretch/>
        </p:blipFill>
        <p:spPr>
          <a:xfrm>
            <a:off x="523800" y="1596960"/>
            <a:ext cx="536760" cy="2981520"/>
          </a:xfrm>
          <a:prstGeom prst="rect">
            <a:avLst/>
          </a:prstGeom>
          <a:ln w="0">
            <a:noFill/>
          </a:ln>
        </p:spPr>
      </p:pic>
      <p:sp>
        <p:nvSpPr>
          <p:cNvPr id="277" name="CasellaDiTesto 8"/>
          <p:cNvSpPr/>
          <p:nvPr/>
        </p:nvSpPr>
        <p:spPr>
          <a:xfrm>
            <a:off x="838080" y="4495680"/>
            <a:ext cx="838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sellaDiTesto 9"/>
          <p:cNvSpPr/>
          <p:nvPr/>
        </p:nvSpPr>
        <p:spPr>
          <a:xfrm>
            <a:off x="914400" y="1828800"/>
            <a:ext cx="838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ccia in su 10"/>
          <p:cNvSpPr/>
          <p:nvPr/>
        </p:nvSpPr>
        <p:spPr>
          <a:xfrm>
            <a:off x="2286000" y="3352680"/>
            <a:ext cx="228600" cy="190512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asellaDiTesto 11"/>
          <p:cNvSpPr/>
          <p:nvPr/>
        </p:nvSpPr>
        <p:spPr>
          <a:xfrm>
            <a:off x="11160" y="5257800"/>
            <a:ext cx="38001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DISUGUAGLIANZA ECONOM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</a:rPr>
              <a:t>E NELLE OPPORTUN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ccia in su 12"/>
          <p:cNvSpPr/>
          <p:nvPr/>
        </p:nvSpPr>
        <p:spPr>
          <a:xfrm>
            <a:off x="5562720" y="4114800"/>
            <a:ext cx="152280" cy="1600200"/>
          </a:xfrm>
          <a:prstGeom prst="upArrow">
            <a:avLst>
              <a:gd name="adj1" fmla="val 50000"/>
              <a:gd name="adj2" fmla="val 50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llaDiTesto 13"/>
          <p:cNvSpPr/>
          <p:nvPr/>
        </p:nvSpPr>
        <p:spPr>
          <a:xfrm>
            <a:off x="4278240" y="5715000"/>
            <a:ext cx="35352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SUGUAGLIANZA  NEI RU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LLA P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llaDiTesto 14"/>
          <p:cNvSpPr/>
          <p:nvPr/>
        </p:nvSpPr>
        <p:spPr>
          <a:xfrm>
            <a:off x="1792440" y="1676520"/>
            <a:ext cx="5938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Arial"/>
              </a:rPr>
              <a:t>Istruzione, Salute, Indice di sopravvivenza: OK! 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ccia in giù 15"/>
          <p:cNvSpPr/>
          <p:nvPr/>
        </p:nvSpPr>
        <p:spPr>
          <a:xfrm>
            <a:off x="4495680" y="198108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ura Chies                                                        DEAMS - Università di 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ttangolo 17"/>
          <p:cNvSpPr/>
          <p:nvPr/>
        </p:nvSpPr>
        <p:spPr>
          <a:xfrm>
            <a:off x="1066680" y="4724280"/>
            <a:ext cx="6705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The Global Gender Gap Report 2011, Ita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32:28Z</dcterms:created>
  <dc:creator>Proprietario</dc:creator>
  <dc:description/>
  <dc:language>en-US</dc:language>
  <cp:lastModifiedBy>5122</cp:lastModifiedBy>
  <dcterms:modified xsi:type="dcterms:W3CDTF">2012-04-13T14:22:38Z</dcterms:modified>
  <cp:revision>95</cp:revision>
  <dc:subject/>
  <dc:title>Bilancio di Genere della Provincia di Trieste</dc:title>
</cp:coreProperties>
</file>